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954838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430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25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25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710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986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430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710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986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430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25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2640" y="60912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25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430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25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25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25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430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6308640"/>
            <a:ext cx="2895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ducational Research: Competencies for Analysis and Application, 9</a:t>
            </a:r>
            <a:r>
              <a:rPr b="0" i="1" lang="en-US" sz="1000" spc="-1" strike="noStrike" baseline="30000">
                <a:solidFill>
                  <a:srgbClr val="000000"/>
                </a:solidFill>
                <a:latin typeface="Tahoma"/>
                <a:ea typeface="ＭＳ Ｐゴシック"/>
              </a:rPr>
              <a:t>th</a:t>
            </a:r>
            <a:r>
              <a:rPr b="0" i="1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edi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ay, Mills, &amp; Airasi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638680" y="6384960"/>
            <a:ext cx="221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© 2009 Pearson Education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3434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D0EBB-267C-4941-B5E6-2D4FDE90FE2F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352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861320" y="6362640"/>
            <a:ext cx="1130400" cy="41904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1143000" y="609480"/>
            <a:ext cx="7848720" cy="5562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Chapter 20: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 Action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a definition and describe the purpose and key characteristics of action researc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y two types of action research and three levels at which it can be conduct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y the steps and common techniques used to carry out action research in schoo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ction Research Techniqu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ing and gaining insight into an area of foc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ing insight through self-ref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ing insight through descriptive activ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ing insight through explanatory activ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ction Research Techniqu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42640" y="20574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ng, analyzing, and interpret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type of data collected for an action research study is determined by the nature of the probl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llection in action research may be idiosyncrati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ative data often drives action researc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tative data, when used, are often reported through the use of descriptive statistic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ction Research Techniqu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on plan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ion researchers share their finding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bally and in written for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ion planning includes deciding what steps, if any, need to be taken to benefit practi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ion research often leads to new ques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ction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on research in education is any systematic inquiry conducted by teachers, principals, school counselors, or other stakehold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ction research, information is gathered to gain insight, develop reflective practice, and to effect positive chang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ction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on research provides teacher researchers with a method for solving everyday problems in schoo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on research incorporates a reflective stance in a teacher’s daily routin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on research contributes to the professional stance that teachers adop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on research encourages and empowers teachers to take risks and make chang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ction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y Character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on research is persuasive and authoritativ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on research is relev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on research is accessi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on research challenges intractability of reform of the educational syste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on research is not a fa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ypes of Action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goal of critical action research is to liberate individuals through knowledge gathering.  Critical action research is also called emancipatory action researc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mocratic: Enables participation of all peo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table: Acknowledges people’s equality of wor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berating: Provides freedom from oppressive, debilitating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hancing: Enables expression of people’s potent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ypes of Action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ctical action research emphasizes a how-to approach to action researc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achers are autonomous and can determine the nature of investiga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acher researchers are committed to professional development and school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achers are decision makers and will choose their own areas of focus, determine data collection techniques, analyze and interpret the data, and develop action plans on their finding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ction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vels of action resear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school or department action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teacher groups or tea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 on a common iss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aborations between faculty and university-based researc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ction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vels of action resear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oolwide action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school community identifies a common focused go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vidual teacher action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teacher’s own classro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ction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ction research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ialectic action research spi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step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ying an area of foc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ll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 and interpre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ion plan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ristina Robb</cp:lastModifiedBy>
  <dcterms:modified xsi:type="dcterms:W3CDTF">2008-05-19T14:03:33Z</dcterms:modified>
  <cp:revision>82</cp:revision>
  <dc:subject/>
  <dc:title>AutoCAD Architecture 2008: Part I: Getting Started</dc:title>
</cp:coreProperties>
</file>